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FF78-9FD2-41FE-9FEE-BEA6E4832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06DC-FBDC-4092-804F-EFDD6A201BB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1496-BF3B-4828-B889-2802DCD7F38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51DD-4C5F-44E2-9799-FF179048AE9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943E-9E84-45A1-8F25-7E2CFF3835A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DAC4-4777-4A5A-A3EA-B61DF0AA487C}"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9736-1FCF-4160-8DB1-11070DDA77C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BCD5-B17B-4166-863C-09C6A205FC5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4EF5-98ED-41FB-8863-F05F2F35B8F0}"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EDB4-9ADE-4CD9-BE49-A2187BAF34D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552E-60BB-45C1-8AFA-50333ED0B3B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9D86-3E26-4D36-BA69-054CDB1588CE}"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32FE-71E0-4C7E-A8F1-C3A3946B766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035C-0E73-4478-9B30-F17FA5F4388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7E77-BE9E-47A8-9E94-1D4FD220A48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538E-F6DF-4D2A-A7F3-0EE4A4A5139E}"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AB2C-6350-4195-B9C5-A8012EC11E3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293F-1D2F-457D-98A5-65C1985FCCEF}"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D30C-FEDC-420A-9734-3B86D73BC83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BC1D-80B1-48D6-B282-F70E7870B10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0FC4-287B-41E9-928B-2BA4A245BD5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9A1A-C4E7-4EF0-A9FE-A3E7872075B1}"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94439-8163-48E7-B398-263E4D937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B383-EE02-45BF-AFB3-FD0E6299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609D1-032D-456C-9827-FD4BF97BF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A33E7-2ADF-461D-9CD9-3F16CDF22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34452-18EB-4096-81EA-760F13973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5751B-D922-4099-972F-485A81FDF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39323-65E0-4696-BA9A-3A70F6F2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7A472-35A6-4DE8-9D6E-7BB3581DE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FC442-2164-488D-823A-3C3B9098B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B8657-285A-4455-B34E-6DCEFF109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8B7F7-7D4F-459F-8CAB-B33F6BA75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45E3D-F770-438E-BEA0-0E82B6D9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3F42-532B-40CF-8BE8-0E7B931A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968F7-7642-4615-928C-B81352658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81C9F-6EF2-4DC9-B68F-AF2D24174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999FB-7B4D-4500-8446-22DC6BE02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AD0A7-0563-433F-AD4F-887FE0E7B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8597-12F6-4683-8F69-58238293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97CFB-2F88-4FA8-BDF6-B3EA869BB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D42E-BA2F-4CEE-8A7E-5395DB9DD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935B-96F1-4054-B1F6-74D19CA8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AEE8-B315-48C8-8D20-0FBECFA5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29764-A32F-4DFC-AD92-37141193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5AB4-E15B-4B52-9A7A-C9F718031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D1CB-9E75-4F67-AF8C-4D53A7D408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2AA5-B063-4C2B-8B76-D6F0E07D4A8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endres@doe.state.in.us" TargetMode="External"/><Relationship Id="rId2" Type="http://schemas.openxmlformats.org/officeDocument/2006/relationships/hyperlink" Target="mailto:gnettles@doe.state.in.us"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1676520"/>
            <a:ext cx="6933960" cy="21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 Key to Success</a:t>
            </a:r>
            <a:endParaRPr b="0" lang="en-US" sz="4400" spc="-1" strike="noStrike">
              <a:solidFill>
                <a:srgbClr val="ffcc66"/>
              </a:solidFill>
              <a:latin typeface="Times New Roman"/>
            </a:endParaRPr>
          </a:p>
        </p:txBody>
      </p:sp>
      <p:sp>
        <p:nvSpPr>
          <p:cNvPr id="98" name="PlaceHolder 2"/>
          <p:cNvSpPr>
            <a:spLocks noGrp="1"/>
          </p:cNvSpPr>
          <p:nvPr>
            <p:ph type="subTitle"/>
          </p:nvPr>
        </p:nvSpPr>
        <p:spPr>
          <a:xfrm>
            <a:off x="1911240" y="3968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Liaison Training</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003-2004</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1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jor trend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ising housing cos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ising poverty rat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 Enrollment</a:t>
            </a:r>
            <a:endParaRPr b="0" lang="en-US" sz="44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nroll immediately, even when lacking documentation such a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of of residency</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munizations or medical record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of of guardianship</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irth certificates, school records, or other similar document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niform or dress code requiremen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ana Law</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mmunizations: Indiana Public Health Code requir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at each school keep immunization record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at children who do not have records be given a waiver or have a schedule in place to receive immunizations or have a written religious objection</a:t>
            </a:r>
            <a:endParaRPr b="0" lang="en-US" sz="2800" spc="-1" strike="noStrike">
              <a:solidFill>
                <a:srgbClr val="eaeaea"/>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i="1" lang="en-US" sz="2400" spc="-1" strike="noStrike">
                <a:solidFill>
                  <a:srgbClr val="eaeaea"/>
                </a:solidFill>
                <a:latin typeface="Times New Roman"/>
              </a:rPr>
              <a:t>IC 20-8.1-7-9</a:t>
            </a:r>
            <a:endParaRPr b="0" lang="en-US" sz="24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spute Resolution</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 child or youth may be expelled from a public school without due process, including a hearing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hools have the right to investigate the legal residency of students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hearing officer must be informed if the student is homeless and of the rights of homeless students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Indiana Compulsory Attendance Law, IC 20-8.1-3</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spute Resolution cont’d</a:t>
            </a:r>
            <a:endParaRPr b="0" lang="en-US" sz="4400" spc="-1" strike="noStrike">
              <a:solidFill>
                <a:srgbClr val="ffcc66"/>
              </a:solidFill>
              <a:latin typeface="Times New Roman"/>
            </a:endParaRPr>
          </a:p>
        </p:txBody>
      </p:sp>
      <p:sp>
        <p:nvSpPr>
          <p:cNvPr id="12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ll suspected homeless children and youth MUST be allowed to attend school until the dispute is settled through due proces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f a student is denied enrollment to a school, they must be given a written explanation for the denial.  This should also include an explanation of the appeal process</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McKinney-Vento Act, Section 722(g)(3)(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 School Choice</a:t>
            </a:r>
            <a:endParaRPr b="0" lang="en-US" sz="44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ool of Origin:  Where the child last attended when permanently hous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ould attend here if in best interest, feasibl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ool in current attendance are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 </a:t>
            </a:r>
            <a:br>
              <a:rPr sz="4400"/>
            </a:br>
            <a:r>
              <a:rPr b="0" lang="en-US" sz="4400" spc="-1" strike="noStrike">
                <a:solidFill>
                  <a:srgbClr val="ffcc66"/>
                </a:solidFill>
                <a:latin typeface="Times New Roman"/>
              </a:rPr>
              <a:t>Attendance &amp; Success</a:t>
            </a:r>
            <a:endParaRPr b="0" lang="en-US" sz="44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rental involvemen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parable servic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ransporta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gregation of homeless students is prohibited!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Liaisons</a:t>
            </a:r>
            <a:endParaRPr b="0" lang="en-US" sz="4400" spc="-1" strike="noStrike">
              <a:solidFill>
                <a:srgbClr val="ffcc66"/>
              </a:solidFill>
              <a:latin typeface="Times New Roman"/>
            </a:endParaRPr>
          </a:p>
        </p:txBody>
      </p:sp>
      <p:sp>
        <p:nvSpPr>
          <p:cNvPr id="13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view &amp; revise policy</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st educational rights</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nsure: </a:t>
            </a:r>
            <a:endParaRPr b="0" lang="en-US" sz="32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dentification &amp; enrollment</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ull &amp; equal access to services</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closure of rights to parents and unaccompanied youth, including the right to transportation</a:t>
            </a:r>
            <a:endParaRPr b="0" lang="en-US" sz="2800" spc="-1" strike="noStrike">
              <a:solidFill>
                <a:srgbClr val="eaeaea"/>
              </a:solidFill>
              <a:latin typeface="Times New Roman"/>
            </a:endParaRPr>
          </a:p>
          <a:p>
            <a:pPr lvl="1" marL="743040" indent="-28584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Mediation of disputes</a:t>
            </a:r>
            <a:endParaRPr b="0" lang="en-US" sz="2800" spc="-1" strike="noStrike">
              <a:solidFill>
                <a:srgbClr val="eaeaea"/>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arning Signs of Homelessnes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ck of continuity in educa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ransportation &amp; attendance problem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or health or nutri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ck of privacy or personal space after school</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cial or behavioral concern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ctions or statements by child or parent</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rategies for Implementation</a:t>
            </a:r>
            <a:endParaRPr b="0" lang="en-US" sz="4400" spc="-1" strike="noStrike">
              <a:solidFill>
                <a:srgbClr val="ffcc66"/>
              </a:solidFill>
              <a:latin typeface="Times New Roman"/>
            </a:endParaRPr>
          </a:p>
        </p:txBody>
      </p:sp>
      <p:sp>
        <p:nvSpPr>
          <p:cNvPr id="134" name="PlaceHolder 2"/>
          <p:cNvSpPr>
            <a:spLocks noGrp="1"/>
          </p:cNvSpPr>
          <p:nvPr>
            <p:ph/>
          </p:nvPr>
        </p:nvSpPr>
        <p:spPr>
          <a:xfrm>
            <a:off x="1218960" y="1600200"/>
            <a:ext cx="380988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amp; reduced price breakfast &amp; lunch program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textbooks</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alth insurance</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itle I program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pecial Education</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ifted Programs</a:t>
            </a:r>
            <a:endParaRPr b="0" lang="en-US" sz="2800" spc="-1" strike="noStrike">
              <a:solidFill>
                <a:srgbClr val="eaeaea"/>
              </a:solidFill>
              <a:latin typeface="Times New Roman"/>
            </a:endParaRPr>
          </a:p>
        </p:txBody>
      </p:sp>
      <p:sp>
        <p:nvSpPr>
          <p:cNvPr id="135" name="PlaceHolder 3"/>
          <p:cNvSpPr>
            <a:spLocks noGrp="1"/>
          </p:cNvSpPr>
          <p:nvPr>
            <p:ph/>
          </p:nvPr>
        </p:nvSpPr>
        <p:spPr>
          <a:xfrm>
            <a:off x="5181480" y="1600200"/>
            <a:ext cx="381024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nsportation</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efore and after school program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ead Start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ven Star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genda</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pening Activiti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Act: How it came to b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o is homeles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Act: What it i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cKinney-Vento Liaison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trategies for implementatio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rap-Up</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itle I and Homelessness</a:t>
            </a:r>
            <a:r>
              <a:rPr b="0" lang="en-US" sz="4400" spc="-1" strike="noStrike">
                <a:solidFill>
                  <a:srgbClr val="ffcc66"/>
                </a:solidFill>
                <a:latin typeface="Times New Roman"/>
              </a:rPr>
              <a:t>	</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tle I application must show collaboration with McKinney-Vento Ac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itle IA funds must include a set aside amount to serve homeless students</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Title I of the ESEA, Sec. 1113(c)(3)(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itle I and Homelessnes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9" name="PlaceHolder 2"/>
          <p:cNvSpPr>
            <a:spLocks noGrp="1"/>
          </p:cNvSpPr>
          <p:nvPr>
            <p:ph/>
          </p:nvPr>
        </p:nvSpPr>
        <p:spPr>
          <a:xfrm>
            <a:off x="1219320" y="1600200"/>
            <a:ext cx="777240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set aside funds may be used to:</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ordinate services through a designated person to make contact with homeless families, youth &amp; service provider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 outreach service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 assistance in non-Title I school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 early childhood education program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fer students to health services and counseling</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utor, provide supplemental instruction or enriched service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ther assistance as needed</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eds Assessment</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ere are the shelters in your community?  Are there any?</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at organizations in the district can help homeless youth or families?</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at issues are unique to your communit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source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43" name="PlaceHolder 2"/>
          <p:cNvSpPr>
            <a:spLocks noGrp="1"/>
          </p:cNvSpPr>
          <p:nvPr>
            <p:ph/>
          </p:nvPr>
        </p:nvSpPr>
        <p:spPr>
          <a:xfrm>
            <a:off x="1219320" y="1599840"/>
            <a:ext cx="7772400" cy="525780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Christina Endres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u="sng">
                <a:solidFill>
                  <a:srgbClr val="ff33cc"/>
                </a:solidFill>
                <a:uFillTx/>
                <a:latin typeface="Times New Roman"/>
                <a:hlinkClick r:id="rId1"/>
              </a:rPr>
              <a:t>endres@doe.state.in.us</a:t>
            </a:r>
            <a:r>
              <a:rPr b="0" lang="en-US" sz="3200" spc="-1" strike="noStrike">
                <a:solidFill>
                  <a:srgbClr val="eaeaea"/>
                </a:solidFill>
                <a:latin typeface="Times New Roman"/>
              </a:rPr>
              <a:t> or (317) 232-0548</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aylon Nettles</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u="sng">
                <a:solidFill>
                  <a:srgbClr val="ff33cc"/>
                </a:solidFill>
                <a:uFillTx/>
                <a:latin typeface="Times New Roman"/>
                <a:hlinkClick r:id="rId2"/>
              </a:rPr>
              <a:t>gnettles@doe.state.in.us</a:t>
            </a:r>
            <a:r>
              <a:rPr b="0" lang="en-US" sz="3200" spc="-1" strike="noStrike">
                <a:solidFill>
                  <a:srgbClr val="eaeaea"/>
                </a:solidFill>
                <a:latin typeface="Times New Roman"/>
              </a:rPr>
              <a:t> or (317) 232-9132</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amie Miller, Cynthia Hurst, Sandi Stanfield</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317) 232-0540</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ive Credit Where Credit is Due!</a:t>
            </a:r>
            <a:endParaRPr b="0" lang="en-US" sz="4400" spc="-1" strike="noStrike">
              <a:solidFill>
                <a:srgbClr val="ffcc66"/>
              </a:solidFill>
              <a:latin typeface="Times New Roman"/>
            </a:endParaRPr>
          </a:p>
        </p:txBody>
      </p:sp>
      <p:sp>
        <p:nvSpPr>
          <p:cNvPr id="102"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training was developed with the help of: </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Center for Homeless Education </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Law Center on Homelessness &amp; Poverty</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Association for the Education of Homeless Children &amp; Youth</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ational Coalition for the Homeless</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tate Coordinators, with special thanks to Shelley Reed of Maine and the homeless coordinators of New England</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Jada</a:t>
            </a:r>
            <a:endParaRPr b="0" lang="en-US" sz="4400" spc="-1" strike="noStrike">
              <a:solidFill>
                <a:srgbClr val="ffcc66"/>
              </a:solidFill>
              <a:latin typeface="Times New Roman"/>
            </a:endParaRPr>
          </a:p>
        </p:txBody>
      </p:sp>
      <p:sp>
        <p:nvSpPr>
          <p:cNvPr id="104" name="PlaceHolder 2"/>
          <p:cNvSpPr>
            <a:spLocks noGrp="1"/>
          </p:cNvSpPr>
          <p:nvPr>
            <p:ph/>
          </p:nvPr>
        </p:nvSpPr>
        <p:spPr>
          <a:xfrm>
            <a:off x="1219320" y="1600200"/>
            <a:ext cx="77724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Jada Miller, 8, has just moved in with her grandfather, Ted Jacobs, because her mother was sentenced to five years in jail and she has no place else to go. Mr. Jacobs is elderly and in poor health and does not believe he can take care of her for very long. Jada sleeps on a cot in his room.  Mr. Jacobs met with the school counselor at the local elementary school, to enroll Jada.  During the meeting, he told the counselor that he thinks Jada might have a learning disability and that she should be evaluated.  The counselor told Mr. Jacobs that he can’t enroll Jada or request special education services, because he’s not her legal guardian.</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cKinney-Vento Act</a:t>
            </a:r>
            <a:endParaRPr b="0" lang="en-US" sz="44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987: Stewart B. McKinney Homeless Assistance Act</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uthorized in 1990</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 1994 placed under IASA</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001: McKinney-Vento Act, NCLB</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Scale of Homelessnes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Up to 2 million people will experience homelessness this year</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little over half of the people will be children and youth</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fastest growing segment of the homeless population is families</a:t>
            </a:r>
            <a:endParaRPr b="0" lang="en-US" sz="32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National Law Center on Homelessness &amp; Poverty, 1999</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mpact on Indiana</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eaeaea"/>
              </a:solidFill>
              <a:latin typeface="Times New Roman"/>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eaeaea"/>
                </a:solidFill>
                <a:latin typeface="Times New Roman"/>
              </a:rPr>
              <a:t>29,000</a:t>
            </a:r>
            <a:endParaRPr b="0" lang="en-US" sz="9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o is Homeless?</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495680"/>
          </a:xfrm>
          <a:prstGeom prst="rect">
            <a:avLst/>
          </a:prstGeom>
          <a:noFill/>
          <a:ln w="0">
            <a:noFill/>
          </a:ln>
        </p:spPr>
        <p:txBody>
          <a:bodyPr anchor="t">
            <a:normAutofit fontScale="99000"/>
          </a:bodyPr>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 individual who lacks fixed, regular, and adequate, nighttime residence.</a:t>
            </a:r>
            <a:endParaRPr b="0" lang="en-US" sz="3200" spc="-1" strike="noStrike">
              <a:solidFill>
                <a:srgbClr val="eaeaea"/>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ludes:</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oubled-up</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iving in motels, hotels, trailer parks, or camp grounds due to lack of other housing</a:t>
            </a:r>
            <a:endParaRPr b="0" lang="en-US" sz="3200" spc="-1" strike="noStrike">
              <a:solidFill>
                <a:srgbClr val="eaeaea"/>
              </a:solidFill>
              <a:latin typeface="Times New Roman"/>
            </a:endParaRPr>
          </a:p>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iving in emergency or transitional housing</a:t>
            </a:r>
            <a:endParaRPr b="0" lang="en-US" sz="3200" spc="-1" strike="noStrike">
              <a:solidFill>
                <a:srgbClr val="eaeaea"/>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hildren in hospitals or other institutions while waiting for foster care or other permanent housing</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iving in cars, public spaces, abandoned buildings, substandard housing</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igratory children who meet the above criteri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14:10:15Z</dcterms:created>
  <dc:creator>IDOE</dc:creator>
  <dc:description/>
  <dc:language>en-US</dc:language>
  <cp:lastModifiedBy>Bari, Barbara Selkirk</cp:lastModifiedBy>
  <dcterms:modified xsi:type="dcterms:W3CDTF">2012-03-28T20:20:09Z</dcterms:modified>
  <cp:revision>56</cp:revision>
  <dc:subject/>
  <dc:title>McKinney-Vento: A Key to Success</dc:title>
</cp:coreProperties>
</file>